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083-F8E9-4A9C-8F82-75BF56ED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A0D-9855-4B72-8BCA-1C33A51F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BAEFE-5CBF-41DC-B9C0-A141AA6D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A5B21-5E4A-4B77-AF1C-24F0885D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07029-FB41-468A-944F-07151C81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8D5C5-FFFD-4F83-A29B-EE314353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2A662-6714-4307-BFBA-E0D62157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F0C95-AD97-4D34-B6A5-BE4AF2D0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DCC2C-5A7D-44F2-A8BD-2F775519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9CAD9-732B-4FC1-8FCA-7349DCF7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29559-CB42-4594-A732-44BD8E48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86360-76E1-4148-A34E-FB934259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F00-D24A-447E-AA57-F614727A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F9E57-C4CE-42F9-B87C-D2E0176F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79907-C62D-42D9-A0A6-972F4239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C4FE9-83A3-498E-A188-FC3C56ED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9859B-C422-400F-9CD7-0B7BAECA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FB197-3658-4150-9E7C-1F4757F8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4B532-4E98-41AA-B9AC-AD17B681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0DF92-85BF-4B49-A125-0B4C6620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CF924-C1EA-40F2-BE62-EBF6831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B26A3-7AD4-4CF9-93FB-76C33606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ADCF1-7F4E-4BF9-9313-02033A12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693-8E8A-43D0-B331-E92DE429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207CB-D07E-40F1-94D4-9646855C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00551-5E9F-4C07-A5F6-A44CF77E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A594-73AE-43D0-A50A-C3F7E050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37460-E67F-4080-8785-3190DE7E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99CE9-57B4-4304-9275-48A33204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AC3F8-B9E6-4706-BDF5-55D15170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48158-1A7E-4E91-89CC-127280D9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C2CD0-A436-41E9-9775-F13ABFA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554A2-909B-4B18-BE7B-D6A2112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ECACA-D1B9-43A8-AD90-54AA971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10DD-DF7E-4D3E-A6D8-0B17CDA1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EF69C-529E-4409-AB0A-1A7715DB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6BFE4-2275-47FD-A2EF-A1931BC7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53CD0-68AA-4C33-89DE-8290761F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2202C-2C7A-4709-B71E-2EB6B62C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B06E0-B349-440A-9513-6A83214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B854B-1313-4FB7-B7A2-42FC914A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353C0-CE93-4AF6-8153-1BFA4F35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8A6D1-D9F5-4202-8570-7F3A91AC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0BA84-3177-45EE-831B-23E22FD4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F8BCE-EBB9-482F-8A6F-16C63F1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7406-B2B4-4050-9787-FA7584B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F8E71-E27B-440D-88FC-D42E5A2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F4CC0-F685-4976-9D32-A71E07C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C0C00-00CA-4270-847B-0211BEC3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B2BAD-CD8A-49F0-85A2-9A862C43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5A0A2-4EF8-4DB4-AEE4-BEF47A1F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BA3F-C4FD-4808-BA1D-62E5F3DF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E1A4-57D1-4F44-9EFE-FFEA08D0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454C-9AC5-4AB5-AAB0-147D1D4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CB16-C0C6-497E-B45F-D7C79A7F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DA79-759E-4CE6-9C2D-9DFAF50C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CBD-D794-4988-A5D0-AC2EBD2C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A60F-427C-4B9D-B9C7-EE92ABA3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E8F4-32BD-4FFD-9BBA-CF2A68D2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4C31-185F-4AE8-A9A1-08F942ED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7893-FC0E-4A12-AD1F-13F54D4A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D461-6EFD-4411-BCE2-19235DDB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2EDC-F443-42B1-8D9E-A5AE7EB5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4D8CB-A6A2-40BB-9AB3-41AA8719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4CC06-782B-49CC-8B21-260BAC0C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D0BB-C7C6-4DC0-9B02-72EF8097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6E3F-45A7-4DE2-B8D5-09E81D07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77C-CDA8-40C3-B708-738D1AD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DA80E-8CC0-47CB-8FBD-4BC04484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CEE5-65CB-4B38-8C90-113BE3D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DAB6-561E-44DF-8C85-9E86326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8859-99B7-4A92-87D3-B29C106B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E720-9C47-4C7C-93CE-8B6534C2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47E1-93D0-4D31-A27F-3AB7C690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FD04-6436-493A-A798-86072556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592EF-BA58-4DCB-A515-00213E52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1D62-B81D-4529-B474-7FF31AB5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377B0-EA0E-46A6-925A-6C5D8054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585-104D-4D22-9F70-7A46BEC1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5E67D-FFE6-470D-B381-5CF6BDA8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24B1-4792-450E-A395-7FED0AFA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2E5B-5A71-44CD-81F2-C76C8196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61374-6DA2-4AA3-B8C5-31100624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866F-7296-4BB2-B589-BA440D26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4C5D7-DE98-44D8-86DE-98874D7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9D29-4082-48A3-B8AD-2A673A4F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7DF92-282A-43A1-BA3C-95C59617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54331-9A5A-481F-A94E-D451B403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01370-190E-4C73-93CF-749CCAD5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87A-E99D-49FB-869D-6DD402D3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3C220-1995-492F-8FFA-C28EE86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79CB8-C676-4563-A859-6745A1D0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BB513-653C-4961-A366-9B1E884A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05A9-8DB4-4F1F-BB73-EBE8A09E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3376E-1AAF-48B9-B4C7-97D7F6D3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7C13-E301-4009-94C5-149DFBAD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45E59-86D8-4C27-BDDE-602E654D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8660D-DFF2-4CA2-B0BE-E81F77FC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76993-7578-4B50-8512-C31E9F71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832A-71A1-4895-90A3-4909BD62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850-E8D6-4D26-B058-BA5408F5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0D71E-03C2-4D21-BAFE-2F3363C1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B549F-B05A-4D37-BB73-19367BE4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01B1E-3EFE-4064-9E85-7082B448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D9D7-EDDF-49BC-B54F-8EF8FFBD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B7A36-7913-440D-8704-D7F2A48F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14BBA-439B-4129-84CC-BB8BC3F2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37073-29D3-4CA4-8C4C-007CDE38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E1782-2BFF-433A-97B3-5A48BE4A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98C5-9210-4694-8081-B6AF939A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0ADEF-90F6-48FA-9EAC-67A75CE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678-6CB2-4EFD-9F51-60E6F43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5C81B-354C-423E-B424-C6BFD38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3C7D1-A5FD-4D4D-9E57-40798712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EEFAE-E27B-45C0-B63F-33A2E423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6CC7D-8FDB-4923-9424-90C817E0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7AEFB-0107-4508-8AA3-12EA1A1B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57110-2734-4A95-B682-4CA8B89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EDB27-CF6A-43DD-86DE-D54C6BCA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BA915-F24D-4542-8101-0E3A6A3C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8498A-13A4-4F3D-8D83-38F360E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11FAE-CB00-4DE8-8C91-D1D050D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A9A-9CA0-4690-86EA-91694B14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9DAEC-0C6B-4FDB-9E61-42CBB64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791E-C5C6-4E72-9888-5B376B42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CDF20-9A87-47BC-A34F-7F47D5DD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C581B-9CC5-4733-8055-6B1A0990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80999-5D2F-4011-8FFD-12ED19E9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4A9F6-0020-4E61-8B60-93B2FFB9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1DC3E-F363-4E7B-9AE2-191F203D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839BF-E3C3-4151-826E-75A05227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BDF3B-93FB-4970-9088-04BD330B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D1BF-5CB5-43AD-822F-77F84A60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85C-0CA5-4B92-8C47-B41050C1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7CDD8-DDD5-4D57-8006-6CC16F8A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719C6-1F41-4281-8BF4-717A729B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C2D8E-75CB-4034-935F-602AC811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8AF4F-21D2-42F1-A8D3-CA87CEF5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9EF8-9BE2-4C1E-B940-018A855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B3C09-9981-4D8A-9C77-CD972ABD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C3005-0B40-493C-8B29-385ACDF1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16792-901A-4717-8208-7A00712F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691BD-7960-4136-A75C-226E782B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22930-411C-40DE-BAFE-7FECBF52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E7474-8E2A-45DE-9408-76683035887C}" type="slidenum"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3280" y="537480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7720" y="537480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360" y="537480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D3AA3-1C66-4F3E-B92B-2DC5B92C236F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1D16F-B0E9-4BA6-8DA7-AD3E5E4B06C7}" type="slidenum"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3280" y="537480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7720" y="537480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360" y="537480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32FB6-6F34-49C2-AED7-4F066482F074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454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454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000" y="6454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1D512-3271-4B38-BFC4-A20A44AA561F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4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562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562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92A78-D138-4F03-9CAB-E63FAAEF71A1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42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0000" y="1979640"/>
            <a:ext cx="827424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0AF43-B8F0-4AD5-B166-289E66903422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4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12720" y="6562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55720" y="6562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335360" y="6562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B7E19-1414-4BDF-ADAC-AA66B1433C08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2160360"/>
            <a:ext cx="90644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70188-60E0-4198-BAA7-F5C083D2E846}" type="slidenum"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12720" y="6454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7720" y="6454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83000" y="6454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F65B3-BA37-44CA-BD6A-E9C7C60061F6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E8D73-5130-470B-B11E-2A34592736CC}" type="slidenum"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73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1295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1428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3572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99C22-4F21-439C-9033-919275F36C8B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2220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4400" spc="-1" strike="noStrike">
                <a:solidFill>
                  <a:srgbClr val="000099"/>
                </a:solidFill>
                <a:latin typeface="Arial"/>
              </a:rPr>
              <a:t>Organigramm der Parte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-12600" y="5965920"/>
            <a:ext cx="10093320" cy="1593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8567640" y="6191280"/>
            <a:ext cx="1008000" cy="11383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808360" y="1655640"/>
            <a:ext cx="4464000" cy="684360"/>
          </a:xfrm>
          <a:prstGeom prst="roundRect">
            <a:avLst>
              <a:gd name="adj" fmla="val 231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504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Initiative Humanis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(Name der Parte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60720" y="262728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19640" y="2627280"/>
            <a:ext cx="180036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rial"/>
              </a:rPr>
              <a:t>Bundesaussch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40360" y="262728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u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9280" y="363528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Jun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Human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6000" y="4824360"/>
            <a:ext cx="1295280" cy="863640"/>
          </a:xfrm>
          <a:prstGeom prst="roundRect">
            <a:avLst>
              <a:gd name="adj" fmla="val 181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Studenten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verband 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Human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00360" y="2052720"/>
            <a:ext cx="1008000" cy="3168720"/>
          </a:xfrm>
          <a:custGeom>
            <a:avLst/>
            <a:gdLst/>
            <a:ahLst/>
            <a:rect l="l" t="t" r="r" b="b"/>
            <a:pathLst>
              <a:path w="2801" h="8801">
                <a:moveTo>
                  <a:pt x="2800" y="0"/>
                </a:moveTo>
                <a:lnTo>
                  <a:pt x="0" y="0"/>
                </a:lnTo>
                <a:lnTo>
                  <a:pt x="0" y="8800"/>
                </a:lnTo>
              </a:path>
            </a:pathLst>
          </a:cu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60720" y="341964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9640" y="3419640"/>
            <a:ext cx="180036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rial"/>
              </a:rPr>
              <a:t>Landesaussch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40360" y="341964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60720" y="421164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119640" y="4211640"/>
            <a:ext cx="180036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ausschu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40360" y="421164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60720" y="5003640"/>
            <a:ext cx="180000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Mitgliede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versamm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119640" y="5003640"/>
            <a:ext cx="180036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Ortsausschu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40360" y="5003640"/>
            <a:ext cx="180000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Ort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511280" y="4140360"/>
            <a:ext cx="29520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511280" y="5219640"/>
            <a:ext cx="29520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567640" y="363528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Vereini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g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67640" y="475128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Gruppie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r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272360" y="2052720"/>
            <a:ext cx="973080" cy="3168720"/>
          </a:xfrm>
          <a:custGeom>
            <a:avLst/>
            <a:gdLst/>
            <a:ahLst/>
            <a:rect l="l" t="t" r="r" b="b"/>
            <a:pathLst>
              <a:path w="2701" h="8801">
                <a:moveTo>
                  <a:pt x="0" y="0"/>
                </a:moveTo>
                <a:lnTo>
                  <a:pt x="2700" y="0"/>
                </a:lnTo>
                <a:lnTo>
                  <a:pt x="2700" y="8800"/>
                </a:lnTo>
              </a:path>
            </a:pathLst>
          </a:cu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8237520" y="4140360"/>
            <a:ext cx="37296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8237520" y="5219640"/>
            <a:ext cx="37296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040360" y="481788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020000" y="323352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020000" y="4025880"/>
            <a:ext cx="1440" cy="192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7020000" y="481788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060720" y="4025880"/>
            <a:ext cx="1440" cy="192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060720" y="481788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060720" y="323352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040360" y="323352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040360" y="4025880"/>
            <a:ext cx="1440" cy="192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9280" y="248436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Humanisten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511280" y="2987640"/>
            <a:ext cx="29520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567640" y="248436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Ausländis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Human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237520" y="3024360"/>
            <a:ext cx="37296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922560" y="2987640"/>
            <a:ext cx="222480" cy="3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904000" y="2987640"/>
            <a:ext cx="21888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922560" y="3743280"/>
            <a:ext cx="222480" cy="3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904000" y="3743280"/>
            <a:ext cx="21888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922560" y="4535640"/>
            <a:ext cx="222480" cy="2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904000" y="4535640"/>
            <a:ext cx="21888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900760" y="5326200"/>
            <a:ext cx="21888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920760" y="5327640"/>
            <a:ext cx="222120" cy="3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-12600" y="5965920"/>
            <a:ext cx="10093320" cy="1593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8567640" y="6191280"/>
            <a:ext cx="1008000" cy="11383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40360" y="576360"/>
            <a:ext cx="180036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Präsi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Mitglie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40360" y="1547640"/>
            <a:ext cx="180036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u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Mitglie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40360" y="2519280"/>
            <a:ext cx="1800360" cy="324000"/>
          </a:xfrm>
          <a:prstGeom prst="roundRect">
            <a:avLst>
              <a:gd name="adj" fmla="val 486"/>
            </a:avLst>
          </a:prstGeom>
          <a:gradFill rotWithShape="0">
            <a:gsLst>
              <a:gs pos="0">
                <a:srgbClr val="9999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Wahl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8423280" y="1180800"/>
            <a:ext cx="1440" cy="134460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056360" y="2153880"/>
            <a:ext cx="1800" cy="39060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67640" y="3240000"/>
            <a:ext cx="266364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unde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Beschlüsse zur Bundespoliti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Delegie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56360" y="2843280"/>
            <a:ext cx="1800" cy="36036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423280" y="2843280"/>
            <a:ext cx="1440" cy="36036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299280" y="3852720"/>
            <a:ext cx="468360" cy="82728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35280" y="3240000"/>
            <a:ext cx="2664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Beschlüsse zur Landespoliti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Delegie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03280" y="3240000"/>
            <a:ext cx="266364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Beschlüsse zur Komunalpoliti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Delegie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67640" y="4680000"/>
            <a:ext cx="2700360" cy="36036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35280" y="4680000"/>
            <a:ext cx="2700360" cy="36036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9640" y="4680000"/>
            <a:ext cx="2700360" cy="360360"/>
          </a:xfrm>
          <a:prstGeom prst="roundRect">
            <a:avLst>
              <a:gd name="adj" fmla="val 486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Mitgliederversamm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838160" y="3849480"/>
            <a:ext cx="1800" cy="83340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3280" y="5329080"/>
            <a:ext cx="266364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Ortsverb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Parteiba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35280" y="5040360"/>
            <a:ext cx="1440" cy="28872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68720" y="3564000"/>
            <a:ext cx="468360" cy="14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00720" y="3564000"/>
            <a:ext cx="486000" cy="14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95640" y="1800360"/>
            <a:ext cx="1800360" cy="431640"/>
          </a:xfrm>
          <a:prstGeom prst="roundRect">
            <a:avLst>
              <a:gd name="adj" fmla="val 231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eir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Mitglie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0000" y="1547640"/>
            <a:ext cx="3996000" cy="684360"/>
          </a:xfrm>
          <a:prstGeom prst="roundRect">
            <a:avLst>
              <a:gd name="adj" fmla="val 231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undesausschu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Mitglie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96000" y="1871640"/>
            <a:ext cx="1044360" cy="14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4720" y="2700360"/>
            <a:ext cx="3942000" cy="1440"/>
          </a:xfrm>
          <a:custGeom>
            <a:avLst/>
            <a:gdLst/>
            <a:ahLst/>
            <a:rect l="l" t="t" r="r" b="b"/>
            <a:pathLst>
              <a:path w="13801" h="1">
                <a:moveTo>
                  <a:pt x="1380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844720" y="2225160"/>
            <a:ext cx="1800" cy="48132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166920" y="3776760"/>
            <a:ext cx="468360" cy="9032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35280" y="5310360"/>
            <a:ext cx="2664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verb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Landkreise und kreisfreie Städ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767640" y="5329080"/>
            <a:ext cx="266364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Zusammenfassung der Landkrei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in den Bundesländer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88480" y="5003640"/>
            <a:ext cx="1440" cy="32400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6120" y="5003640"/>
            <a:ext cx="1800" cy="2876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71640" y="4176720"/>
            <a:ext cx="1800000" cy="287280"/>
          </a:xfrm>
          <a:prstGeom prst="roundRect">
            <a:avLst>
              <a:gd name="adj" fmla="val 486"/>
            </a:avLst>
          </a:prstGeom>
          <a:gradFill rotWithShape="0">
            <a:gsLst>
              <a:gs pos="0">
                <a:srgbClr val="9999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Wahl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43640" y="4140360"/>
            <a:ext cx="1800360" cy="287280"/>
          </a:xfrm>
          <a:prstGeom prst="roundRect">
            <a:avLst>
              <a:gd name="adj" fmla="val 486"/>
            </a:avLst>
          </a:prstGeom>
          <a:gradFill rotWithShape="0">
            <a:gsLst>
              <a:gs pos="0">
                <a:srgbClr val="9999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Wahl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76720" y="4140360"/>
            <a:ext cx="1800000" cy="287280"/>
          </a:xfrm>
          <a:prstGeom prst="roundRect">
            <a:avLst>
              <a:gd name="adj" fmla="val 486"/>
            </a:avLst>
          </a:prstGeom>
          <a:gradFill rotWithShape="0">
            <a:gsLst>
              <a:gs pos="0">
                <a:srgbClr val="9999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Wahl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-12600" y="5965920"/>
            <a:ext cx="10093320" cy="15937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8567640" y="6191280"/>
            <a:ext cx="1008000" cy="11383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0" y="360360"/>
            <a:ext cx="1008072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Der Bundesvor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6360" y="4103640"/>
            <a:ext cx="8999280" cy="1728720"/>
          </a:xfrm>
          <a:prstGeom prst="roundRect">
            <a:avLst>
              <a:gd name="adj" fmla="val 88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193320" bIns="180000" anchor="ctr">
            <a:noAutofit/>
          </a:bodyPr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Der Parteivorstand ist das politische Führungsorgan der Parte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Zu seinen Aufgaben zählen u.a.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Beschlussfassung über alle politischen und organisatorischen F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Abgabe von Stellungnahmen der Partei zu aktuellen politischen F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Vorbereitung von W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6360" y="1189080"/>
            <a:ext cx="8999280" cy="2770200"/>
          </a:xfrm>
          <a:prstGeom prst="rect">
            <a:avLst/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räsidium (geschäftsführender Vorstand) (xx Mitglie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as Präsidium besteht aus dem Parteivorsitzende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em Geschäftsführer (auf Vorschlag des Parteivorstandes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en x Sprechern (stellvertretende Vorsitzende) u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em Bundes-Schatzmeist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r Parteivorstand (xx Mitglie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er Bundesvorstand besteht aus dem Präsi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und x Beisitzern. Für diese Beisitzer haben die Landesverbände das alleinige Vorschlagsrech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-12600" y="5965920"/>
            <a:ext cx="10093320" cy="1593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8567640" y="6191280"/>
            <a:ext cx="1008000" cy="11383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0" y="360360"/>
            <a:ext cx="1008072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Der Bundesaussch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9640" y="1152360"/>
            <a:ext cx="4140360" cy="1079640"/>
          </a:xfrm>
          <a:prstGeom prst="roundRect">
            <a:avLst>
              <a:gd name="adj" fmla="val 144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x Vertreter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r Landesverbä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00720" y="1130400"/>
            <a:ext cx="4140000" cy="1079280"/>
          </a:xfrm>
          <a:prstGeom prst="roundRect">
            <a:avLst>
              <a:gd name="adj" fmla="val 144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x VertreterInnen aus 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Versammlung der bundesw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Gruppierungen und Vereini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39640" y="2476440"/>
            <a:ext cx="4140360" cy="1079640"/>
          </a:xfrm>
          <a:prstGeom prst="roundRect">
            <a:avLst>
              <a:gd name="adj" fmla="val 144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x Mitglieder des Parteivorst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91000" y="2462040"/>
            <a:ext cx="4140360" cy="1079640"/>
          </a:xfrm>
          <a:prstGeom prst="roundRect">
            <a:avLst>
              <a:gd name="adj" fmla="val 144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x Vertreterinnen oder Vert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s anerkannten Jugendverb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6360" y="3816360"/>
            <a:ext cx="8999280" cy="2016000"/>
          </a:xfrm>
          <a:prstGeom prst="roundRect">
            <a:avLst>
              <a:gd name="adj" fmla="val 79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193320" bIns="180000" anchor="ctr">
            <a:noAutofit/>
          </a:bodyPr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Der Bundesausschuss ist das Organ der Partei mit Initiativfunktion gegenüber dem Partei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vorstand. Er steht dem Parteivorstand zur Konsultation und Beratung zur Verfügung und 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ontrollinstru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Der Bundesausschuss fördert u.a. das Zusammengehen der Landesverbän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Er berät und beschliesst u.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grundsätzliche politisch und organisatorische Fra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den jährlichen Et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7:55:12Z</dcterms:created>
  <dc:creator>Helmut Jüterbock</dc:creator>
  <dc:description/>
  <dc:language>en-US</dc:language>
  <cp:lastModifiedBy>Helmut Jüterbock</cp:lastModifiedBy>
  <dcterms:modified xsi:type="dcterms:W3CDTF">2013-10-04T10:17:54Z</dcterms:modified>
  <cp:revision>2</cp:revision>
  <dc:subject/>
  <dc:title/>
</cp:coreProperties>
</file>